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723-8E55-4871-8935-72FE28BC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707-161E-4C04-8B4E-3B75FC0D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C97-DF2D-4C87-8AC3-86E5A677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057-7A83-4AD8-B266-941A82BF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F1E-A56E-4ACE-B93E-442B1DE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32C-D378-4DDC-BA88-79416308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B94-C22F-4980-8E42-C15CE0CB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AB7-83F0-4131-9092-A14441B7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4DF-8CA3-4165-91F3-0C39ADB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8CF-F096-43E3-A0C0-3A7989A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5A0-01AC-42AE-9569-1E2BB0B0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CF9-FCF3-4B5E-9D77-07BC412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FC0-A636-409A-B9CE-5A20B64F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5520" y="228600"/>
            <a:ext cx="41878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4920" y="5943600"/>
            <a:ext cx="391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ecial Forces Troop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0" y="990720"/>
            <a:ext cx="4264200" cy="559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724280" y="304920"/>
            <a:ext cx="400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elping the Wounded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6708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38080" y="6095880"/>
            <a:ext cx="298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ne Taking Off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648320" y="838080"/>
            <a:ext cx="4267080" cy="581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724280" y="228600"/>
            <a:ext cx="414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oops on the way to Japan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3:07:07Z</dcterms:created>
  <dc:creator>Information Technology</dc:creator>
  <dc:description/>
  <dc:language>en-US</dc:language>
  <cp:lastModifiedBy>Information Technology</cp:lastModifiedBy>
  <dcterms:modified xsi:type="dcterms:W3CDTF">2010-02-10T13:16:51Z</dcterms:modified>
  <cp:revision>2</cp:revision>
  <dc:subject/>
  <dc:title>Slide 1</dc:title>
</cp:coreProperties>
</file>